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0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6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slideMaster17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11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19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notesSlides/_rels/notesSlide4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jpeg" ContentType="image/jpeg"/>
  <Override PartName="/ppt/media/image3.jpeg" ContentType="image/jpeg"/>
  <Override PartName="/ppt/media/image4.png" ContentType="image/png"/>
  <Override PartName="/ppt/media/image8.jpeg" ContentType="image/jpeg"/>
  <Override PartName="/ppt/media/image6.png" ContentType="image/png"/>
  <Override PartName="/ppt/media/image7.png" ContentType="image/png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83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0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23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</p:sldMasterIdLst>
  <p:notesMasterIdLst>
    <p:notesMasterId r:id="rId21"/>
  </p:notesMasterIdLst>
  <p:sldIdLst>
    <p:sldId id="256" r:id="rId22"/>
    <p:sldId id="257" r:id="rId23"/>
    <p:sldId id="258" r:id="rId24"/>
    <p:sldId id="259" r:id="rId25"/>
    <p:sldId id="260" r:id="rId26"/>
    <p:sldId id="261" r:id="rId27"/>
    <p:sldId id="262" r:id="rId28"/>
    <p:sldId id="263" r:id="rId29"/>
    <p:sldId id="264" r:id="rId30"/>
    <p:sldId id="265" r:id="rId31"/>
    <p:sldId id="266" r:id="rId32"/>
    <p:sldId id="267" r:id="rId33"/>
    <p:sldId id="268" r:id="rId34"/>
    <p:sldId id="269" r:id="rId35"/>
    <p:sldId id="270" r:id="rId36"/>
    <p:sldId id="271" r:id="rId37"/>
    <p:sldId id="272" r:id="rId38"/>
    <p:sldId id="273" r:id="rId39"/>
    <p:sldId id="274" r:id="rId40"/>
    <p:sldId id="275" r:id="rId41"/>
    <p:sldId id="276" r:id="rId42"/>
    <p:sldId id="277" r:id="rId43"/>
    <p:sldId id="278" r:id="rId44"/>
    <p:sldId id="279" r:id="rId4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notesMaster" Target="notesMasters/notesMaster1.xml"/><Relationship Id="rId22" Type="http://schemas.openxmlformats.org/officeDocument/2006/relationships/slide" Target="slides/slide1.xml"/><Relationship Id="rId23" Type="http://schemas.openxmlformats.org/officeDocument/2006/relationships/slide" Target="slides/slide2.xml"/><Relationship Id="rId24" Type="http://schemas.openxmlformats.org/officeDocument/2006/relationships/slide" Target="slides/slide3.xml"/><Relationship Id="rId25" Type="http://schemas.openxmlformats.org/officeDocument/2006/relationships/slide" Target="slides/slide4.xml"/><Relationship Id="rId26" Type="http://schemas.openxmlformats.org/officeDocument/2006/relationships/slide" Target="slides/slide5.xml"/><Relationship Id="rId27" Type="http://schemas.openxmlformats.org/officeDocument/2006/relationships/slide" Target="slides/slide6.xml"/><Relationship Id="rId28" Type="http://schemas.openxmlformats.org/officeDocument/2006/relationships/slide" Target="slides/slide7.xml"/><Relationship Id="rId29" Type="http://schemas.openxmlformats.org/officeDocument/2006/relationships/slide" Target="slides/slide8.xml"/><Relationship Id="rId30" Type="http://schemas.openxmlformats.org/officeDocument/2006/relationships/slide" Target="slides/slide9.xml"/><Relationship Id="rId31" Type="http://schemas.openxmlformats.org/officeDocument/2006/relationships/slide" Target="slides/slide10.xml"/><Relationship Id="rId32" Type="http://schemas.openxmlformats.org/officeDocument/2006/relationships/slide" Target="slides/slide11.xml"/><Relationship Id="rId33" Type="http://schemas.openxmlformats.org/officeDocument/2006/relationships/slide" Target="slides/slide12.xml"/><Relationship Id="rId34" Type="http://schemas.openxmlformats.org/officeDocument/2006/relationships/slide" Target="slides/slide13.xml"/><Relationship Id="rId35" Type="http://schemas.openxmlformats.org/officeDocument/2006/relationships/slide" Target="slides/slide14.xml"/><Relationship Id="rId36" Type="http://schemas.openxmlformats.org/officeDocument/2006/relationships/slide" Target="slides/slide15.xml"/><Relationship Id="rId37" Type="http://schemas.openxmlformats.org/officeDocument/2006/relationships/slide" Target="slides/slide16.xml"/><Relationship Id="rId38" Type="http://schemas.openxmlformats.org/officeDocument/2006/relationships/slide" Target="slides/slide17.xml"/><Relationship Id="rId39" Type="http://schemas.openxmlformats.org/officeDocument/2006/relationships/slide" Target="slides/slide18.xml"/><Relationship Id="rId40" Type="http://schemas.openxmlformats.org/officeDocument/2006/relationships/slide" Target="slides/slide19.xml"/><Relationship Id="rId41" Type="http://schemas.openxmlformats.org/officeDocument/2006/relationships/slide" Target="slides/slide20.xml"/><Relationship Id="rId42" Type="http://schemas.openxmlformats.org/officeDocument/2006/relationships/slide" Target="slides/slide21.xml"/><Relationship Id="rId43" Type="http://schemas.openxmlformats.org/officeDocument/2006/relationships/slide" Target="slides/slide22.xml"/><Relationship Id="rId44" Type="http://schemas.openxmlformats.org/officeDocument/2006/relationships/slide" Target="slides/slide23.xml"/><Relationship Id="rId45" Type="http://schemas.openxmlformats.org/officeDocument/2006/relationships/slide" Target="slides/slide24.xml"/><Relationship Id="rId4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0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9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3" name="PlaceHolder 2"/>
          <p:cNvSpPr>
            <a:spLocks noGrp="1"/>
          </p:cNvSpPr>
          <p:nvPr>
            <p:ph type="dt" idx="5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move the slide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6" name="PlaceHolder 5"/>
          <p:cNvSpPr>
            <a:spLocks noGrp="1"/>
          </p:cNvSpPr>
          <p:nvPr>
            <p:ph type="ftr" idx="5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7" name="PlaceHolder 6"/>
          <p:cNvSpPr>
            <a:spLocks noGrp="1"/>
          </p:cNvSpPr>
          <p:nvPr>
            <p:ph type="sldNum" idx="5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B8588-1F15-4421-B71F-28369B5A8619}" type="slidenum">
              <a:rPr b="0" lang="lt-LT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1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4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7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2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8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89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0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3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6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9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2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9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5" name="Footer Placeholder 5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054a6f"/>
                </a:solidFill>
                <a:latin typeface="Arial"/>
                <a:ea typeface="Arial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DA22245D-5783-43CE-BF25-605FA0D8943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0D7C7151-1EBB-4B84-A950-00D3995247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2DD0209-EED4-4267-B0BB-69FB10B1EB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68D9F649-BFDD-4670-84A7-6B05B4B8DE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C0BAFFB-780B-461B-81DC-C0F6D189C7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59F55171-0DAF-45C0-8F70-534BA7B1A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4FA8403A-833B-4736-94DC-5AEE314CDF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A118F192-745F-4E46-9459-A786B0D70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9CF224D6-B39F-4917-868E-5B891DCEF4C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945ABDC-2CB7-45C2-86C4-285930510F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10EF2B8-E76D-4BFA-BD10-E580E5008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97C015EE-02C1-4986-9F5D-259712ECC8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753EE13F-37FD-4C97-8D47-01C363EB85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439A1535-71A5-4B09-934E-81429827D5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6A4483F7-E542-448F-9B5F-04D9F21D39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1F8432BD-FDEB-4C8E-9A59-FE36F73805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5B1820C7-3E50-4199-9696-0E9CE470CD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D79D7247-8272-4476-8AA9-A47D46DA3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1439959-F93E-4D7E-9A19-178BAFBF11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0DDCEAF0-5F09-4FB9-BBB5-8DA54A6416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0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6"/>
          </p:nvPr>
        </p:nvSpPr>
        <p:spPr/>
        <p:txBody>
          <a:bodyPr/>
          <a:p>
            <a:fld id="{2EAB9F10-7911-423B-B1A9-30953D1530F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080087F6-95B5-4E3A-B3D3-53B8C92B02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265F66F-03F1-4A9D-A2E0-AF1C48CD81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29DB2B5-EA25-43EB-ACF1-5980B00EAB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3AC9358-DD3B-4269-9F73-F9C1E540A4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8C9DE74-19D7-434B-AF8C-57FEF2D7DB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41CBF89-1ECE-4EE1-92A3-4509F93644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80DF757-E6DA-4500-B697-F23AFDC06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9CC87F26-13D6-4B3C-B606-6967D5C14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28668EBE-2290-44F3-8796-D05C1990A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7B6DE71-AC24-4A6C-A557-CACA8E69D2E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3C7B240-9B88-4814-B95A-9ACB1C418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5C86914-95F1-4A24-A4AA-4E17372A70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CC4BBEF4-4C26-4F18-8D23-6399F3CB4D7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15A6A41-C6E5-4A8C-96FE-7EEC0DF6B7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D1DAAE-B046-4C67-A3C0-641476322D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3AC2602-70B7-4769-9FA9-96FA0F6CCF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8FAAC6B4-EC84-43FB-BDFA-F4E77F4198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BED14DA-B1A3-41C4-A083-601A573637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1122F3F-A7B1-4516-80B6-9EA38B87A6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304E6283-C321-440B-B333-9DDBED54A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BB34268-DEAC-45BA-A63E-3B36A9BE2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E752F54-F552-4794-9588-E99022E119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AC548EA2-A9F0-47A7-84BB-B530384FCF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18830F5-FDDF-4932-96C3-BC09BA4A30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17D1CA-A7E1-4374-A6A8-FCEF33F81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7AC91A8-45B4-4459-A88B-4917825389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26986B0-809D-4E03-BE05-FF1DE2540E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6EC60035-3374-41AE-A6F6-C385692CF9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C7024F4-44DC-45F9-864B-2113EA3F7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619D983-4E24-46CA-A534-F7194CDEE39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C235942-B494-4990-99D9-9D2F1C2768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1151BA6-9148-4649-B30A-049D31BD0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51531D-FFD1-4BA6-9459-742E3671C6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11809A2E-294A-4021-8DEB-CB5EB9511D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0D73039-D94F-4014-984C-3B217F82F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6AF1A5C-777F-41C8-8F50-B75200BE39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B228D39-1594-4846-80F7-F8260893E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5E416AB0-6A58-4E65-BD06-82C9996DB5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BC030E2B-1D7E-4ECB-BA2A-054EC095BD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9FFF70E-1436-46A9-B075-0D43509B80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13A41C-A409-406A-8C7E-355733ADAF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E97BB60-AF9A-4FE7-A192-63380C253B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9B50D-8099-4987-AC38-9CDD5B68E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1CC29EF-2B04-4637-B511-0F8C1B8F89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21BCB2D5-DF56-437D-A2C1-142D1F82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1BFF650-2691-4BA6-B6C4-B3B9C99B37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617C6D72-F731-42C9-A62D-F86BF66C93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AF7F2B5-C3CD-4943-99C1-D5EE8BFDEF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FACEC3-12A0-4112-B6C2-A34C4D8F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810718BA-033A-4A58-B5CC-AC8EEA1A17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36ADD61B-32B7-420E-828D-53DAEA7B1A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55576D3D-5ADB-4DF1-9F0C-B171247EF3D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34D8280-0E8B-4BF8-9240-7D4D2A88AC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0F698F1-970F-47ED-974C-3F7F3CA596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1C1EE81-E4E7-4521-8CE8-4A1AD88D94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749A2458-6145-4008-AAE4-1C44737B1DD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FBD85B38-9ED5-4B8B-84FE-FE4094E8D6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6B66D56D-C544-46D1-8D6D-4C6FA8FF44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3979517-90D1-46E0-BB6E-8742E1AF8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3702652B-7D68-4A7E-B955-3F0098B4B8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9C5113BF-AA91-4260-AE3B-5C8CDF8C40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0A1C1636-0B10-4FCA-8E91-A3C6CC454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180BB72A-3678-41D1-8359-ADA00F2E54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19EEC40-F8A0-47C9-A08C-1C67603FE00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2DE82FC-D495-41D5-AED8-3386B2479D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1"/>
          </p:nvPr>
        </p:nvSpPr>
        <p:spPr/>
        <p:txBody>
          <a:bodyPr/>
          <a:p>
            <a:fld id="{235B180B-2607-46A8-819E-3C41FB6D71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36108A2-1AC0-4A96-B10B-0328E487A0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1254930A-C09A-467E-8BD0-0AA1DA302A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C8712C7-42E0-4A28-8E2E-BD829F1F546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11AE57-A318-46D3-A1BB-2E5D7C37E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39887670-5E4D-419F-9491-9AD5F68F15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BDC0751-847D-45F7-AAC8-AAF51E2A84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9957BD6-F22D-4D3E-987D-FCBA6EBC0E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5FD0E298-7C52-4802-8398-546F517792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6337DBE2-9E4C-495C-AFA0-952CA5DFC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4E27A21-A10C-4B50-A962-A9AC770E5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FE7BFFC-3F60-43BC-8D48-2A94FF4945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1DDB18C-E381-4C84-8241-447D973D90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D33FE0D3-9107-4D30-BA55-784E422D13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174EC415-88D9-4C40-8CB2-9C47AD78AEA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A674CCA-8E01-4299-8478-5D329000A4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B3845D47-2FA6-4AC6-B465-32F506D7FA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D4F81E2C-0DE5-43DA-9461-2161E20A96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F1487D3-A5ED-41A0-9013-3D578E21E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8DC88F1F-417C-466A-B8A4-7792207C1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3EAFDBB-96BE-4B92-B255-6A01F7BC8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CD62AE43-60FF-4BA2-A811-2A26A55087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3708332F-B1DF-4F36-8804-D77F79A6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EEAE9850-5D34-401B-8EF9-39C4909F27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6DFF31E7-6AEA-462F-8937-668864105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79B2F777-4DDC-4257-A3E5-264151B9219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7"/>
          </p:nvPr>
        </p:nvSpPr>
        <p:spPr/>
        <p:txBody>
          <a:bodyPr/>
          <a:p>
            <a:fld id="{443B50AE-8BC2-4F0A-BED1-F9E039FEA5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CA0314B-F4AE-4219-9635-F6F2074E75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C7CC238-738A-475E-8E9D-8365EBAE9B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03D4CF-9A73-4486-B613-5DCEE2D0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E28940A-82EC-4E7C-A584-8D2DE4F11C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3F53410-09D3-43F6-A8AB-7997547B5A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D52B5BF-D42A-45CE-B89F-F5E68B4376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74AFCE2-F25E-4D83-B1EE-942241A25C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D8E4D603-EBC5-461A-A613-224770DE1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1944A20-1359-4AC2-9D11-ECE0364747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AEC4F65-2964-4533-933E-39B19E7B0B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8BE4086B-D1D1-4C96-89A3-47BD0E6643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6E75FC8-D9FC-4699-94D9-4F2DFBDB5C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4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BEF23B27-4996-4EE1-A2FD-AE14AD73E1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D2E93FFC-0978-4332-870C-544A0127590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1F69DC3D-F378-4082-A307-C12E991FB4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81A7EB9-9367-439C-97C2-F31474F1BA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76FE4BA8-5F9B-4EA8-B891-328B49A63B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D4C5527-CCF7-439A-BF92-D54A4300F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F3FE2B97-5115-4518-AB9A-82418BDCBD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27856706-45DA-4051-BBE1-AAC7A777B4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734986BD-41A6-40E4-BE2B-A635137F73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5A08081D-D387-4BBC-AD3D-2CB5D494A4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EAE1000A-E493-41FB-B599-F91BBCCBFE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96E12C2-2E84-4465-A4AB-03CFDF5F33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92E7CDB6-9526-48BD-8EF4-A0592AB72C3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2"/>
          </p:nvPr>
        </p:nvSpPr>
        <p:spPr/>
        <p:txBody>
          <a:bodyPr/>
          <a:p>
            <a:fld id="{8BE0502D-464E-4D88-9CF7-2F53B672AE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F2B8004-B20E-4270-8301-8350E690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2D7267F-2BE1-44DB-BB6A-F17DDF8DA9C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74D044F-A486-4638-BCDE-2871B627538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3221B28-61A9-4423-A5DF-5B1605FE81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712DDA8-928F-4950-BDBB-3654B54657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0472A47-41B8-462C-A7CF-3C6D8450AC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1983FBD-7DF2-4A09-80F2-7BBCE011D9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FF09074-7E8F-4D62-BA57-67A79BBB75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E501B19-545D-44A8-9653-3509BF7932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67804293-2D2F-497B-8F9E-C7C423C141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0662BC8-AD8E-45F9-B7B9-7C988472D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9DAA8232-3DE4-4617-B893-CA54A7A944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8D51143C-30FD-4C06-A868-16D58E7527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374B28A-BD49-4C7C-ABE5-81AFB1DF3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2CB65A8-7B99-49E2-9B31-8890F6A7BD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43EB6245-98D4-42F7-A2C9-59374F6EE4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A5FEAC6-7FDB-4109-BC0F-B528B300F1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0A09A7-BAB1-4BAB-9116-C5DBE58B16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5085591-DAFC-4A38-801B-D158067AE3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6B13D21-834A-4C75-B390-30E510D1F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0D5DC30-88F6-415F-99EC-0BEA26B6EF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C492592-4EBB-4503-A287-A438EAACCC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77569B3-877F-4EEB-83E1-2BB263496EC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7D4B639F-A01E-46F4-B8A0-82EAEBF680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48301AA-4BBC-47A9-94BD-9A2EB11925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FC4287D5-409B-4150-A406-733C1284E05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DD8E99E2-6A11-422C-86B2-57B63FBA2C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E9D7249-6354-4B98-B77C-5D429BCC78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5CC51723-55F5-418D-A52D-712D921735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F1053F82-0E40-45B8-BEF5-71421F6C42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2FA9F51F-64AE-4AF6-B1AB-6ABEBEE21E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160A6794-661E-4CAA-A00C-1ADF37589F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9E70E88F-1115-471D-9869-410F015A9F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0178BBE0-C707-4C21-AF4D-D28CA0DE0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AE067C77-8CDB-4CD6-9752-73F2D4C453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075C158-D0B5-4336-AD87-030DD7A0AE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3F9D5BBE-F5A8-4B95-AEE4-7003E699D6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3"/>
          </p:nvPr>
        </p:nvSpPr>
        <p:spPr/>
        <p:txBody>
          <a:bodyPr/>
          <a:p>
            <a:fld id="{C3005F1D-5120-43CF-973E-160E1423CA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D784A8BA-A296-4499-B510-051934EB8DE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AC6890C5-4FA1-4396-8F78-AB605DD2B7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E243356A-48A7-4E51-BEA3-DD4AA1BEB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5A479CC9-314E-430C-9B0A-174914BAA6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96C0860C-462F-442F-9083-8DFD8ABC38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85E1337-EDD5-447E-9437-CC1E1F0865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8CCF97C5-D8DB-474D-9B34-DD81266DDB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57BC787-A8E5-4D1F-ADDB-FC9B8E928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3157B17C-C085-4FCF-A0EE-CA89C23CD3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4DBB85B2-F472-4C9B-B0AB-85A905348F9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C0E9220E-31FA-44DE-BEEC-F8760E0FBC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7"/>
          </p:nvPr>
        </p:nvSpPr>
        <p:spPr/>
        <p:txBody>
          <a:bodyPr/>
          <a:p>
            <a:fld id="{B37760C9-A6B0-4E6F-9813-BB30639AC9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4DF6B6F-3C3B-490A-B5F3-B81F0CC39A6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7C165C-687D-4FC3-9E30-2E7F18C84B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68A70550-788F-49BD-82CB-6A7DEFB55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E4D221D-3F8D-4A55-92E9-2A3F86EE94E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337CD760-B9A8-49CA-B755-CD8F1C2214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B2B1795F-943A-422A-BEC0-7679130BD7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56BC9EE4-602F-4482-88A2-2FD66205BB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047AA9FD-C6CA-4977-9DFE-0C3BCAD5F7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08C635B-6B96-4C62-8DB0-0EEB689B5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4D2CA807-C0D7-4FC3-85CA-579DCA8F67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DA62E81F-E7F1-498C-9DE6-1ACB80E481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0"/>
          </p:nvPr>
        </p:nvSpPr>
        <p:spPr/>
        <p:txBody>
          <a:bodyPr/>
          <a:p>
            <a:fld id="{8BBAFC23-C9FB-409C-9A1D-450C07C44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C90824C5-3661-4263-87FC-D5E7F2726B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9D6D7EC-8497-4959-A9D4-E2324844C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3"/>
          </p:nvPr>
        </p:nvSpPr>
        <p:spPr/>
        <p:txBody>
          <a:bodyPr/>
          <a:p>
            <a:fld id="{7E9665D2-1488-4C39-99C2-BE0E1BDB54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217.xml"/><Relationship Id="rId5" Type="http://schemas.openxmlformats.org/officeDocument/2006/relationships/slideLayout" Target="../slideLayouts/slideLayout218.xml"/><Relationship Id="rId6" Type="http://schemas.openxmlformats.org/officeDocument/2006/relationships/slideLayout" Target="../slideLayouts/slideLayout219.xml"/><Relationship Id="rId7" Type="http://schemas.openxmlformats.org/officeDocument/2006/relationships/slideLayout" Target="../slideLayouts/slideLayout220.xml"/><Relationship Id="rId8" Type="http://schemas.openxmlformats.org/officeDocument/2006/relationships/slideLayout" Target="../slideLayouts/slideLayout221.xml"/><Relationship Id="rId9" Type="http://schemas.openxmlformats.org/officeDocument/2006/relationships/slideLayout" Target="../slideLayouts/slideLayout222.xml"/><Relationship Id="rId10" Type="http://schemas.openxmlformats.org/officeDocument/2006/relationships/slideLayout" Target="../slideLayouts/slideLayout223.xml"/><Relationship Id="rId11" Type="http://schemas.openxmlformats.org/officeDocument/2006/relationships/slideLayout" Target="../slideLayouts/slideLayout224.xml"/><Relationship Id="rId12" Type="http://schemas.openxmlformats.org/officeDocument/2006/relationships/slideLayout" Target="../slideLayouts/slideLayout225.xml"/><Relationship Id="rId13" Type="http://schemas.openxmlformats.org/officeDocument/2006/relationships/slideLayout" Target="../slideLayouts/slideLayout226.xml"/><Relationship Id="rId14" Type="http://schemas.openxmlformats.org/officeDocument/2006/relationships/slideLayout" Target="../slideLayouts/slideLayout227.xml"/><Relationship Id="rId15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dt" idx="2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5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4" name="PlaceHolder 5"/>
          <p:cNvSpPr>
            <a:spLocks noGrp="1"/>
          </p:cNvSpPr>
          <p:nvPr>
            <p:ph type="sldNum" idx="2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447D9-7FF6-4402-B7AB-61C3717F537F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dt" idx="2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ftr" idx="28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6" name="PlaceHolder 5"/>
          <p:cNvSpPr>
            <a:spLocks noGrp="1"/>
          </p:cNvSpPr>
          <p:nvPr>
            <p:ph type="sldNum" idx="2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2E4D65-96F6-4B3E-AB21-936BB0F6363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dt" idx="3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ftr" idx="31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5"/>
          <p:cNvSpPr>
            <a:spLocks noGrp="1"/>
          </p:cNvSpPr>
          <p:nvPr>
            <p:ph type="sldNum" idx="3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82D5E-CE45-4DA3-87AC-F24D086BFDD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A9B07F-83F5-466E-A848-B5350963E9BE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3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40" name="PlaceHolder 3"/>
          <p:cNvSpPr>
            <a:spLocks noGrp="1"/>
          </p:cNvSpPr>
          <p:nvPr>
            <p:ph type="dt" idx="3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41" name="PlaceHolder 4"/>
          <p:cNvSpPr>
            <a:spLocks noGrp="1"/>
          </p:cNvSpPr>
          <p:nvPr>
            <p:ph type="ftr" idx="37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PlaceHolder 5"/>
          <p:cNvSpPr>
            <a:spLocks noGrp="1"/>
          </p:cNvSpPr>
          <p:nvPr>
            <p:ph type="sldNum" idx="3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36CA32-8769-45C8-9B6D-5BE9187C1750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9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582" name="PlaceHolder 3"/>
          <p:cNvSpPr>
            <a:spLocks noGrp="1"/>
          </p:cNvSpPr>
          <p:nvPr>
            <p:ph type="dt" idx="3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583" name="PlaceHolder 4"/>
          <p:cNvSpPr>
            <a:spLocks noGrp="1"/>
          </p:cNvSpPr>
          <p:nvPr>
            <p:ph type="ftr" idx="40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4" name="PlaceHolder 5"/>
          <p:cNvSpPr>
            <a:spLocks noGrp="1"/>
          </p:cNvSpPr>
          <p:nvPr>
            <p:ph type="sldNum" idx="4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AC7F2A-CE15-4291-987B-A883906E387B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 type="dt" idx="4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 type="ftr" idx="4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 type="sldNum" idx="4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F0842-8766-42C6-8478-A235525335A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6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6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666" name="PlaceHolder 3"/>
          <p:cNvSpPr>
            <a:spLocks noGrp="1"/>
          </p:cNvSpPr>
          <p:nvPr>
            <p:ph type="dt" idx="4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667" name="PlaceHolder 4"/>
          <p:cNvSpPr>
            <a:spLocks noGrp="1"/>
          </p:cNvSpPr>
          <p:nvPr>
            <p:ph type="ftr" idx="4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8" name="PlaceHolder 5"/>
          <p:cNvSpPr>
            <a:spLocks noGrp="1"/>
          </p:cNvSpPr>
          <p:nvPr>
            <p:ph type="sldNum" idx="4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999C50-3074-44A0-9387-4BEBFF017FBC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08" name="PlaceHolder 3"/>
          <p:cNvSpPr>
            <a:spLocks noGrp="1"/>
          </p:cNvSpPr>
          <p:nvPr>
            <p:ph type="dt" idx="4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09" name="PlaceHolder 4"/>
          <p:cNvSpPr>
            <a:spLocks noGrp="1"/>
          </p:cNvSpPr>
          <p:nvPr>
            <p:ph type="ftr" idx="4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0" name="PlaceHolder 5"/>
          <p:cNvSpPr>
            <a:spLocks noGrp="1"/>
          </p:cNvSpPr>
          <p:nvPr>
            <p:ph type="sldNum" idx="5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F83922-890F-43A3-AA51-4001EB604C12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pic>
        <p:nvPicPr>
          <p:cNvPr id="748" name="Obrázek 5" descr=""/>
          <p:cNvPicPr/>
          <p:nvPr/>
        </p:nvPicPr>
        <p:blipFill>
          <a:blip r:embed="rId3"/>
          <a:stretch/>
        </p:blipFill>
        <p:spPr>
          <a:xfrm>
            <a:off x="-127080" y="0"/>
            <a:ext cx="9361440" cy="6858000"/>
          </a:xfrm>
          <a:prstGeom prst="rect">
            <a:avLst/>
          </a:prstGeom>
          <a:ln w="0">
            <a:noFill/>
          </a:ln>
        </p:spPr>
      </p:pic>
      <p:sp>
        <p:nvSpPr>
          <p:cNvPr id="749" name="TextovéPole 6"/>
          <p:cNvSpPr/>
          <p:nvPr/>
        </p:nvSpPr>
        <p:spPr>
          <a:xfrm>
            <a:off x="674640" y="879480"/>
            <a:ext cx="334980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cs-CZ" sz="1000" spc="-1" strike="noStrike">
                <a:solidFill>
                  <a:srgbClr val="054a6f"/>
                </a:solidFill>
                <a:latin typeface="Arial"/>
              </a:rPr>
              <a:t>MINISTRY OF REGIONAL DEVELOPMENT</a:t>
            </a:r>
            <a:br>
              <a:rPr sz="1000"/>
            </a:br>
            <a:r>
              <a:rPr b="1" lang="en-GB" sz="1500" spc="-1" strike="noStrike">
                <a:solidFill>
                  <a:srgbClr val="054a6f"/>
                </a:solidFill>
                <a:latin typeface="Arial"/>
              </a:rPr>
              <a:t>National Coordination Authority</a:t>
            </a:r>
            <a:endParaRPr b="0" lang="en-US" sz="15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7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52" name="PlaceHolder 3"/>
          <p:cNvSpPr>
            <a:spLocks noGrp="1"/>
          </p:cNvSpPr>
          <p:nvPr>
            <p:ph type="dt" idx="51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3" name="PlaceHolder 4"/>
          <p:cNvSpPr>
            <a:spLocks noGrp="1"/>
          </p:cNvSpPr>
          <p:nvPr>
            <p:ph type="sldNum" idx="52"/>
          </p:nvPr>
        </p:nvSpPr>
        <p:spPr>
          <a:xfrm>
            <a:off x="-360" y="-360"/>
            <a:ext cx="360" cy="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-46440" bIns="-4644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2400" spc="-1" strike="noStrike">
                <a:solidFill>
                  <a:srgbClr val="054a6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5D4A76-E293-45F0-BBA6-C89133AAF3A9}" type="slidenum">
              <a:rPr b="0" lang="cs-CZ" sz="2400" spc="-1" strike="noStrike">
                <a:solidFill>
                  <a:srgbClr val="054a6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4" name="PlaceHolder 5"/>
          <p:cNvSpPr>
            <a:spLocks noGrp="1"/>
          </p:cNvSpPr>
          <p:nvPr>
            <p:ph type="ftr" idx="53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4"/>
    <p:sldLayoutId id="2147483884" r:id="rId5"/>
    <p:sldLayoutId id="2147483885" r:id="rId6"/>
    <p:sldLayoutId id="2147483886" r:id="rId7"/>
    <p:sldLayoutId id="2147483887" r:id="rId8"/>
    <p:sldLayoutId id="2147483888" r:id="rId9"/>
    <p:sldLayoutId id="2147483889" r:id="rId10"/>
    <p:sldLayoutId id="2147483890" r:id="rId11"/>
    <p:sldLayoutId id="2147483891" r:id="rId12"/>
    <p:sldLayoutId id="2147483892" r:id="rId13"/>
    <p:sldLayoutId id="2147483893" r:id="rId14"/>
    <p:sldLayoutId id="2147483894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dt" idx="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ftr" idx="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sldNum" idx="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4FB282-7CF5-45A6-97B3-EB8F69AE82C5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ftr" idx="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sldNum" idx="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18F7FF-41F8-4239-B2D3-60A9002A1B84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 type="dt" idx="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 type="ftr" idx="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PlaceHolder 5"/>
          <p:cNvSpPr>
            <a:spLocks noGrp="1"/>
          </p:cNvSpPr>
          <p:nvPr>
            <p:ph type="sldNum" idx="1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ED1B18-7008-431A-9265-35C8FE3EF002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dt" idx="1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ftr" idx="1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sldNum" idx="1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C3FBCCA-7289-4E8D-B2F6-0B9F64E00AEA}" type="slidenum">
              <a:rPr b="0" lang="lt-LT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06" name="PlaceHolder 3"/>
          <p:cNvSpPr>
            <a:spLocks noGrp="1"/>
          </p:cNvSpPr>
          <p:nvPr>
            <p:ph type="ftr" idx="14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3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46" name="PlaceHolder 3"/>
          <p:cNvSpPr>
            <a:spLocks noGrp="1"/>
          </p:cNvSpPr>
          <p:nvPr>
            <p:ph type="dt" idx="1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47" name="PlaceHolder 4"/>
          <p:cNvSpPr>
            <a:spLocks noGrp="1"/>
          </p:cNvSpPr>
          <p:nvPr>
            <p:ph type="ftr" idx="16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5"/>
          <p:cNvSpPr>
            <a:spLocks noGrp="1"/>
          </p:cNvSpPr>
          <p:nvPr>
            <p:ph type="sldNum" idx="1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D00EFE-9980-4F87-857D-C8993C431DFD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288" name="PlaceHolder 3"/>
          <p:cNvSpPr>
            <a:spLocks noGrp="1"/>
          </p:cNvSpPr>
          <p:nvPr>
            <p:ph type="dt" idx="1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289" name="PlaceHolder 4"/>
          <p:cNvSpPr>
            <a:spLocks noGrp="1"/>
          </p:cNvSpPr>
          <p:nvPr>
            <p:ph type="ftr" idx="19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5"/>
          <p:cNvSpPr>
            <a:spLocks noGrp="1"/>
          </p:cNvSpPr>
          <p:nvPr>
            <p:ph type="sldNum" idx="2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7FAFB4-6E7A-4B1A-AABB-084475852885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2" descr="L:\Visionary Analytics\Logo\Brand\Baltas logo 300 dpi spaudai-01.jpg"/>
          <p:cNvPicPr/>
          <p:nvPr/>
        </p:nvPicPr>
        <p:blipFill>
          <a:blip r:embed="rId2">
            <a:lum contrast="10000"/>
          </a:blip>
          <a:stretch/>
        </p:blipFill>
        <p:spPr>
          <a:xfrm>
            <a:off x="7236000" y="6021360"/>
            <a:ext cx="1692000" cy="846000"/>
          </a:xfrm>
          <a:prstGeom prst="rect">
            <a:avLst/>
          </a:prstGeom>
          <a:ln w="0">
            <a:noFill/>
          </a:ln>
        </p:spPr>
      </p:pic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54a6f"/>
                </a:solidFill>
                <a:latin typeface="Century Gothic Bold"/>
              </a:rPr>
              <a:t>Click to edit the title text format</a:t>
            </a: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Click to edit the outline text format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1" marL="743040" indent="-28584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con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2" marL="1143000" indent="-228600"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Third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3" marL="1600200" indent="-228600">
              <a:spcBef>
                <a:spcPts val="799"/>
              </a:spcBef>
              <a:buClr>
                <a:srgbClr val="054a6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our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4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Fif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5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ix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 lvl="6" marL="2057400" indent="-228600">
              <a:spcBef>
                <a:spcPts val="799"/>
              </a:spcBef>
              <a:buClr>
                <a:srgbClr val="054a6f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54a6f"/>
                </a:solidFill>
                <a:latin typeface="Century Gothic Bold"/>
              </a:rPr>
              <a:t>Seventh Outline Level</a:t>
            </a: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2"/>
          </p:nvPr>
        </p:nvSpPr>
        <p:spPr>
          <a:xfrm>
            <a:off x="46800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1200" spc="-1" strike="noStrike">
                <a:solidFill>
                  <a:srgbClr val="8995a4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lt-LT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F445FF-4289-46E6-8DB3-716B7512C0A9}" type="slidenum">
              <a:rPr b="0" lang="lt-LT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17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6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6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subTitle"/>
          </p:nvPr>
        </p:nvSpPr>
        <p:spPr>
          <a:xfrm>
            <a:off x="674640" y="4624200"/>
            <a:ext cx="6400800" cy="492120"/>
          </a:xfrm>
          <a:prstGeom prst="rect">
            <a:avLst/>
          </a:prstGeom>
          <a:noFill/>
          <a:ln w="0">
            <a:noFill/>
          </a:ln>
        </p:spPr>
        <p:txBody>
          <a:bodyPr lIns="90000" anchor="t">
            <a:noAutofit/>
          </a:bodyPr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054a6f"/>
                </a:solidFill>
                <a:latin typeface="Century Gothic"/>
              </a:rPr>
              <a:t>Raimonda Mackevi</a:t>
            </a:r>
            <a:r>
              <a:rPr b="1" lang="lt-LT" sz="1500" spc="-1" strike="noStrike">
                <a:solidFill>
                  <a:srgbClr val="054a6f"/>
                </a:solidFill>
                <a:latin typeface="Century Gothic"/>
              </a:rPr>
              <a:t>čiūtė, Visionary Analytics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799" name="PlaceHolder 2"/>
          <p:cNvSpPr>
            <a:spLocks noGrp="1"/>
          </p:cNvSpPr>
          <p:nvPr>
            <p:ph type="title"/>
          </p:nvPr>
        </p:nvSpPr>
        <p:spPr>
          <a:xfrm>
            <a:off x="179280" y="2565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700" spc="-1" strike="noStrike">
                <a:solidFill>
                  <a:srgbClr val="0070c0"/>
                </a:solidFill>
                <a:latin typeface="Century Gothic"/>
              </a:rPr>
              <a:t>Thinking outside the box:</a:t>
            </a:r>
            <a:br>
              <a:rPr sz="2700"/>
            </a:br>
            <a:r>
              <a:rPr b="1" lang="en-US" sz="2700" spc="-1" strike="noStrike">
                <a:solidFill>
                  <a:srgbClr val="f2af00"/>
                </a:solidFill>
                <a:latin typeface="Century Gothic"/>
              </a:rPr>
              <a:t>Methodological Innovations in Evaluation of Training Courses Funded by the ESF in Lithuania</a:t>
            </a:r>
            <a:endParaRPr b="0" lang="en-US" sz="27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0" name="PlaceHolder 3"/>
          <p:cNvSpPr>
            <a:spLocks noGrp="1"/>
          </p:cNvSpPr>
          <p:nvPr>
            <p:ph/>
          </p:nvPr>
        </p:nvSpPr>
        <p:spPr>
          <a:xfrm>
            <a:off x="674280" y="5327280"/>
            <a:ext cx="3457800" cy="352440"/>
          </a:xfrm>
          <a:prstGeom prst="rect">
            <a:avLst/>
          </a:prstGeom>
          <a:noFill/>
          <a:ln w="0">
            <a:noFill/>
          </a:ln>
        </p:spPr>
        <p:txBody>
          <a:bodyPr lIns="90000" rIns="144000" anchor="t">
            <a:normAutofit/>
          </a:bodyPr>
          <a:p>
            <a:pPr marL="34308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500" spc="-1" strike="noStrike">
                <a:solidFill>
                  <a:srgbClr val="034ea2"/>
                </a:solidFill>
                <a:latin typeface="Century Gothic Bold"/>
              </a:rPr>
              <a:t>3.10.2018, MMR, Prague</a:t>
            </a:r>
            <a:endParaRPr b="0" lang="en-US" sz="15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5" name=""/>
          <p:cNvSpPr txBox="1"/>
          <p:nvPr/>
        </p:nvSpPr>
        <p:spPr>
          <a:xfrm>
            <a:off x="900000" y="2276280"/>
            <a:ext cx="7739280" cy="3562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The only way to know the needs is to ask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Big data is only for business and advertis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8" name=""/>
          <p:cNvSpPr txBox="1"/>
          <p:nvPr/>
        </p:nvSpPr>
        <p:spPr>
          <a:xfrm>
            <a:off x="971640" y="2205000"/>
            <a:ext cx="74167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Job ads as the reflection of market need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Continuous 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process of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data min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799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1" name=""/>
          <p:cNvSpPr txBox="1"/>
          <p:nvPr/>
        </p:nvSpPr>
        <p:spPr>
          <a:xfrm>
            <a:off x="179280" y="1268280"/>
            <a:ext cx="8964720" cy="5329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Data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Weekly scraping of 7 largest vacancies websites (from May 2016)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200" spc="-1" strike="noStrike">
                <a:solidFill>
                  <a:srgbClr val="054a6f"/>
                </a:solidFill>
                <a:latin typeface="Century Gothic"/>
              </a:rPr>
              <a:t>Approx. </a:t>
            </a: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5 k. unique adds each week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Classification by occupations (ISCO 4 digit), economic sector (NACE 4 digit), municipality and individual compan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54a6f"/>
                </a:solidFill>
                <a:latin typeface="Century Gothic"/>
              </a:rPr>
              <a:t>Indicators: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Aggregate and detailed demand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Hard to fill vacancies;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54a6f"/>
                </a:solidFill>
                <a:latin typeface="Century Gothic"/>
              </a:rPr>
              <a:t>Demand for specific competences and bottleneck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2" name="Picture 5" descr=""/>
          <p:cNvPicPr/>
          <p:nvPr/>
        </p:nvPicPr>
        <p:blipFill>
          <a:blip r:embed="rId1"/>
          <a:stretch/>
        </p:blipFill>
        <p:spPr>
          <a:xfrm>
            <a:off x="2340000" y="1754280"/>
            <a:ext cx="4024440" cy="2466720"/>
          </a:xfrm>
          <a:prstGeom prst="rect">
            <a:avLst/>
          </a:prstGeom>
          <a:ln w="0">
            <a:noFill/>
          </a:ln>
        </p:spPr>
      </p:pic>
      <p:sp>
        <p:nvSpPr>
          <p:cNvPr id="843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44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5" name=""/>
          <p:cNvSpPr txBox="1"/>
          <p:nvPr/>
        </p:nvSpPr>
        <p:spPr>
          <a:xfrm>
            <a:off x="2573280" y="1267920"/>
            <a:ext cx="3997440" cy="5327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800" spc="-1" strike="noStrike">
                <a:solidFill>
                  <a:srgbClr val="054a6f"/>
                </a:solidFill>
                <a:latin typeface="Century Gothic Bold"/>
              </a:rPr>
              <a:t>VACANCY ANALYTIC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46" name="Picture 2" descr=""/>
          <p:cNvPicPr/>
          <p:nvPr/>
        </p:nvPicPr>
        <p:blipFill>
          <a:blip r:embed="rId2"/>
          <a:stretch/>
        </p:blipFill>
        <p:spPr>
          <a:xfrm>
            <a:off x="684360" y="4221000"/>
            <a:ext cx="4002120" cy="2637000"/>
          </a:xfrm>
          <a:prstGeom prst="rect">
            <a:avLst/>
          </a:prstGeom>
          <a:ln w="0">
            <a:noFill/>
          </a:ln>
        </p:spPr>
      </p:pic>
      <p:pic>
        <p:nvPicPr>
          <p:cNvPr id="847" name="Picture 4" descr=""/>
          <p:cNvPicPr/>
          <p:nvPr/>
        </p:nvPicPr>
        <p:blipFill>
          <a:blip r:embed="rId3"/>
          <a:stretch/>
        </p:blipFill>
        <p:spPr>
          <a:xfrm>
            <a:off x="4686480" y="4195800"/>
            <a:ext cx="3989160" cy="268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49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0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More “objective“ data (compared to interview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tinuous process of data collection: identification of tren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Flexibility, depending on the question (e.g. Labour demand by the level of education in LT region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1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2" name=""/>
          <p:cNvSpPr txBox="1"/>
          <p:nvPr/>
        </p:nvSpPr>
        <p:spPr>
          <a:xfrm>
            <a:off x="4644720" y="2174760"/>
            <a:ext cx="40417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Limitations determined by the chosen logic of the categorising (e.g. whether driving courses should be categorised as professional training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Only past and present trends (difficult to forecast the future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3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2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4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5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6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57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58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the 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Only qualified audit institutions can monitor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o evaluate the quality, we need to interview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Nobody wants to have their courses monitor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2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4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searchers monitor training courses themselv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Tests before and after the trainings to evaluate whether the participants gained knowledg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6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7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Possibility to check information identified by organisers during the interview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Contact with participants and lectur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8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69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The lack of educational competencies to evaluate details and learning proces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Only one-day trainings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54a6f"/>
                </a:solidFill>
                <a:latin typeface="Century Gothic"/>
              </a:rPr>
              <a:t>Low-scale example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0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1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2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Real-time monitoring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the effectiveness of training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1" name="Rectangle 12"/>
          <p:cNvSpPr/>
          <p:nvPr/>
        </p:nvSpPr>
        <p:spPr>
          <a:xfrm>
            <a:off x="3348000" y="1330200"/>
            <a:ext cx="511164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inking outside the box: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</a:t>
            </a:r>
            <a:r>
              <a:rPr b="1" lang="en-US" sz="3200" spc="-1" strike="noStrike">
                <a:solidFill>
                  <a:srgbClr val="f2af00"/>
                </a:solidFill>
                <a:latin typeface="Century Gothic"/>
                <a:ea typeface="Arial"/>
              </a:rPr>
              <a:t>Methodological Innovations in Evaluation of Training Courses Funded by the ESF in Lithuania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2" name="Rectangle 13"/>
          <p:cNvSpPr/>
          <p:nvPr/>
        </p:nvSpPr>
        <p:spPr>
          <a:xfrm>
            <a:off x="3348000" y="5956200"/>
            <a:ext cx="5616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Raimonda Mackevi</a:t>
            </a: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čiūtė, Visionary Analytics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800" spc="-1" strike="noStrike">
                <a:solidFill>
                  <a:srgbClr val="ffffff"/>
                </a:solidFill>
                <a:latin typeface="Century Gothic"/>
                <a:ea typeface="Arial"/>
              </a:rPr>
              <a:t>October 4, 2018</a:t>
            </a: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0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0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78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benefit analysis as a method that is unsuitable for the evaluation of social intervention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Impossible to get the necessary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An inflexible method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1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Labour Exchange </a:t>
            </a:r>
            <a:r>
              <a:rPr b="0" lang="lt-LT" sz="2800" spc="-1" strike="noStrike">
                <a:solidFill>
                  <a:srgbClr val="054a6f"/>
                </a:solidFill>
                <a:latin typeface="Century Gothic"/>
              </a:rPr>
              <a:t>O</a:t>
            </a: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ffice combining different datasets and providing necessary data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54a6f"/>
                </a:solidFill>
                <a:latin typeface="Century Gothic"/>
              </a:rPr>
              <a:t>Cost-effectiveness analysis of trainings for unemployed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3" name="PlaceHolder 2"/>
          <p:cNvSpPr>
            <a:spLocks noGrp="1"/>
          </p:cNvSpPr>
          <p:nvPr>
            <p:ph/>
          </p:nvPr>
        </p:nvSpPr>
        <p:spPr>
          <a:xfrm>
            <a:off x="375840" y="13078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4" name=""/>
          <p:cNvSpPr txBox="1"/>
          <p:nvPr/>
        </p:nvSpPr>
        <p:spPr>
          <a:xfrm>
            <a:off x="-36720" y="1915920"/>
            <a:ext cx="4608360" cy="3951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Possibility to evaluate the real impact of trainings in numbe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Identification of indicators that affect the results (e.g. the price of training courses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Comparison of different trainings as well as comparison of trainings and other active labour market measure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5" name="PlaceHolder 3"/>
          <p:cNvSpPr>
            <a:spLocks noGrp="1"/>
          </p:cNvSpPr>
          <p:nvPr>
            <p:ph/>
          </p:nvPr>
        </p:nvSpPr>
        <p:spPr>
          <a:xfrm>
            <a:off x="4571640" y="129024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6" name=""/>
          <p:cNvSpPr txBox="1"/>
          <p:nvPr/>
        </p:nvSpPr>
        <p:spPr>
          <a:xfrm>
            <a:off x="4664160" y="1959120"/>
            <a:ext cx="4479840" cy="4898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Does not show whether results were determined by trainings or other factors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54a6f"/>
                </a:solidFill>
                <a:latin typeface="Century Gothic"/>
              </a:rPr>
              <a:t>The method can be applied only for an evaluation of particular measures and trainings (e.g. if the expected result cannot be monetised or turned into a binary variable, the method is unsuitable)</a:t>
            </a:r>
            <a:endParaRPr b="0" lang="en-US" sz="22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87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88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Cost-effectiveness analysis 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Conclusions and </a:t>
            </a:r>
            <a:r>
              <a:rPr b="0" lang="en-GB" sz="3600" spc="-1" strike="noStrike">
                <a:solidFill>
                  <a:srgbClr val="ffffff"/>
                </a:solidFill>
                <a:latin typeface="Century Gothic Bold"/>
              </a:rPr>
              <a:t>the </a:t>
            </a: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ain idea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91" name=""/>
          <p:cNvSpPr txBox="1"/>
          <p:nvPr/>
        </p:nvSpPr>
        <p:spPr>
          <a:xfrm>
            <a:off x="457200" y="1773000"/>
            <a:ext cx="8686800" cy="435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No method is universal: combination of different methods is the only solut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Data exists (somewhere) but we need to make an effort to “find” it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 Bold"/>
              </a:rPr>
              <a:t>The real aim of evaluations: to suggest ideas how to “get out” of the box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54a6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2" name="Rectangle 12"/>
          <p:cNvSpPr/>
          <p:nvPr/>
        </p:nvSpPr>
        <p:spPr>
          <a:xfrm>
            <a:off x="3492360" y="2398680"/>
            <a:ext cx="4104000" cy="20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Thank 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y</a:t>
            </a:r>
            <a:r>
              <a:rPr b="1" lang="lt-LT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ou</a:t>
            </a:r>
            <a:r>
              <a:rPr b="1" lang="en-US" sz="3200" spc="-1" strike="noStrike">
                <a:solidFill>
                  <a:srgbClr val="ffffff"/>
                </a:solidFill>
                <a:latin typeface="Century Gothic"/>
                <a:ea typeface="Arial"/>
              </a:rPr>
              <a:t> for your attention!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2af00"/>
                </a:solidFill>
                <a:latin typeface="Arial"/>
                <a:ea typeface="Arial"/>
              </a:rPr>
              <a:t>Let’s discuss</a:t>
            </a:r>
            <a:endParaRPr b="0" lang="en-US" sz="3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3" name="Rectangle 4"/>
          <p:cNvSpPr/>
          <p:nvPr/>
        </p:nvSpPr>
        <p:spPr>
          <a:xfrm>
            <a:off x="0" y="0"/>
            <a:ext cx="2771640" cy="6858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4" name="Picture 3" descr="L:\Visionary Analytics\Logo\Brand\Baltas logo 300 dpi spaudai-01.jpg"/>
          <p:cNvPicPr/>
          <p:nvPr/>
        </p:nvPicPr>
        <p:blipFill>
          <a:blip r:embed="rId1">
            <a:lum contrast="10000"/>
          </a:blip>
          <a:stretch/>
        </p:blipFill>
        <p:spPr>
          <a:xfrm>
            <a:off x="0" y="0"/>
            <a:ext cx="2771640" cy="1386000"/>
          </a:xfrm>
          <a:prstGeom prst="rect">
            <a:avLst/>
          </a:prstGeom>
          <a:ln w="0">
            <a:noFill/>
          </a:ln>
        </p:spPr>
      </p:pic>
      <p:sp>
        <p:nvSpPr>
          <p:cNvPr id="895" name="Rectangle 7"/>
          <p:cNvSpPr/>
          <p:nvPr/>
        </p:nvSpPr>
        <p:spPr>
          <a:xfrm>
            <a:off x="250920" y="6308640"/>
            <a:ext cx="2305080" cy="291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300" spc="-1" strike="noStrike">
                <a:solidFill>
                  <a:srgbClr val="7f7f7f"/>
                </a:solidFill>
                <a:latin typeface="Century Gothic"/>
              </a:rPr>
              <a:t>© Visionary Analytics, 201</a:t>
            </a:r>
            <a:r>
              <a:rPr b="0" lang="en-US" sz="1300" spc="-1" strike="noStrike">
                <a:solidFill>
                  <a:srgbClr val="7f7f7f"/>
                </a:solidFill>
                <a:latin typeface="Century Gothic"/>
              </a:rPr>
              <a:t>8</a:t>
            </a:r>
            <a:endParaRPr b="0" lang="en-US" sz="13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96" name="Rectangle 13"/>
          <p:cNvSpPr/>
          <p:nvPr/>
        </p:nvSpPr>
        <p:spPr>
          <a:xfrm>
            <a:off x="250920" y="4653000"/>
            <a:ext cx="230508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54a6f"/>
                </a:solidFill>
                <a:latin typeface="Century Gothic"/>
                <a:ea typeface="Arial"/>
              </a:rPr>
              <a:t>Raimonda Mackeviciute</a:t>
            </a:r>
            <a:endParaRPr b="0" lang="en-US" sz="14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Junior Researcher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1200" spc="-1" strike="noStrike">
                <a:solidFill>
                  <a:srgbClr val="f2af00"/>
                </a:solidFill>
                <a:latin typeface="Century Gothic"/>
                <a:ea typeface="Arial"/>
              </a:rPr>
              <a:t>Visionary Analytics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pic>
        <p:nvPicPr>
          <p:cNvPr id="897" name="Picture 8" descr="C:\Users\user\Desktop\FOTO\0X5A2886.jpg"/>
          <p:cNvPicPr/>
          <p:nvPr/>
        </p:nvPicPr>
        <p:blipFill>
          <a:blip r:embed="rId2"/>
          <a:stretch/>
        </p:blipFill>
        <p:spPr>
          <a:xfrm>
            <a:off x="317520" y="1708200"/>
            <a:ext cx="2238480" cy="297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07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Object of the evaluation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08" name=""/>
          <p:cNvSpPr txBox="1"/>
          <p:nvPr/>
        </p:nvSpPr>
        <p:spPr>
          <a:xfrm>
            <a:off x="457200" y="206064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Training courses funded by </a:t>
            </a:r>
            <a:r>
              <a:rPr b="1" lang="en-GB" sz="2400" spc="-1" strike="noStrike">
                <a:solidFill>
                  <a:srgbClr val="054a6f"/>
                </a:solidFill>
                <a:latin typeface="Century Gothic"/>
              </a:rPr>
              <a:t>the </a:t>
            </a:r>
            <a:r>
              <a:rPr b="1" lang="lt-LT" sz="2400" spc="-1" strike="noStrike">
                <a:solidFill>
                  <a:srgbClr val="054a6f"/>
                </a:solidFill>
                <a:latin typeface="Century Gothic"/>
              </a:rPr>
              <a:t>European Social Fund in Lithuania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pic>
        <p:nvPicPr>
          <p:cNvPr id="809" name="Picture 2" descr=""/>
          <p:cNvPicPr/>
          <p:nvPr/>
        </p:nvPicPr>
        <p:blipFill>
          <a:blip r:embed="rId1"/>
          <a:stretch/>
        </p:blipFill>
        <p:spPr>
          <a:xfrm>
            <a:off x="0" y="3357720"/>
            <a:ext cx="4788000" cy="3500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0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Methodological innovations: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2" name=""/>
          <p:cNvSpPr txBox="1"/>
          <p:nvPr/>
        </p:nvSpPr>
        <p:spPr>
          <a:xfrm>
            <a:off x="457200" y="1989000"/>
            <a:ext cx="8229600" cy="413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Survey of ALL beneficiar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Usage of big labour market data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lt-LT" sz="2800" spc="-1" strike="noStrike">
                <a:solidFill>
                  <a:srgbClr val="054a6f"/>
                </a:solidFill>
                <a:latin typeface="Century Gothic"/>
              </a:rPr>
              <a:t>Real-time m</a:t>
            </a: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nitoring of training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2999"/>
              </a:spcBef>
              <a:buClr>
                <a:srgbClr val="054a6f"/>
              </a:buClr>
              <a:buFont typeface="Century Gothic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Cost-effectiveness analysi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 marL="514440" indent="-514440"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3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4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600" spc="-1" strike="noStrike">
                <a:solidFill>
                  <a:srgbClr val="f2af00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5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ffff"/>
                </a:solidFill>
                <a:latin typeface="Century Gothic"/>
              </a:rPr>
              <a:t>Aim: to hear the beneficiaries‘ opinion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6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17" name=""/>
          <p:cNvSpPr txBox="1"/>
          <p:nvPr/>
        </p:nvSpPr>
        <p:spPr>
          <a:xfrm>
            <a:off x="457200" y="1600200"/>
            <a:ext cx="8686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In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ntacts are not available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Large scale surveys might be implemented only by survey compani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presentative sample is always the answer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mall surveys about selected case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9" name="Rectangle 3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0" name=""/>
          <p:cNvSpPr txBox="1"/>
          <p:nvPr/>
        </p:nvSpPr>
        <p:spPr>
          <a:xfrm>
            <a:off x="457200" y="2099880"/>
            <a:ext cx="8686800" cy="406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54a6f"/>
                </a:solidFill>
                <a:latin typeface="Century Gothic"/>
              </a:rPr>
              <a:t>Outside the box: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Requesting contact details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Survey of 100,000 trainings‘ participants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20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54a6f"/>
                </a:solidFill>
                <a:latin typeface="Century Gothic"/>
              </a:rPr>
              <a:t>Combination of online survey tools and coding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457200" y="188640"/>
            <a:ext cx="8229600" cy="93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3" name="PlaceHolder 2"/>
          <p:cNvSpPr>
            <a:spLocks noGrp="1"/>
          </p:cNvSpPr>
          <p:nvPr>
            <p:ph/>
          </p:nvPr>
        </p:nvSpPr>
        <p:spPr>
          <a:xfrm>
            <a:off x="456840" y="1534680"/>
            <a:ext cx="404028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Strength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4" name=""/>
          <p:cNvSpPr txBox="1"/>
          <p:nvPr/>
        </p:nvSpPr>
        <p:spPr>
          <a:xfrm>
            <a:off x="-360" y="2174760"/>
            <a:ext cx="449748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Many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more answer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Answers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to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open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ended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questions: ideas where else to look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Possibility to analyse answers on 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a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 particular level (e.g. financial instruments)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5" name="PlaceHolder 3"/>
          <p:cNvSpPr>
            <a:spLocks noGrp="1"/>
          </p:cNvSpPr>
          <p:nvPr>
            <p:ph/>
          </p:nvPr>
        </p:nvSpPr>
        <p:spPr>
          <a:xfrm>
            <a:off x="4644720" y="1534680"/>
            <a:ext cx="4041720" cy="639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rm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54a6f"/>
                </a:solidFill>
                <a:latin typeface="Century Gothic Bold"/>
              </a:rPr>
              <a:t>Limitations: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6" name=""/>
          <p:cNvSpPr txBox="1"/>
          <p:nvPr/>
        </p:nvSpPr>
        <p:spPr>
          <a:xfrm>
            <a:off x="4644720" y="2174760"/>
            <a:ext cx="4498920" cy="3951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ypical weaknesses of survey methods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GDPR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  <a:p>
            <a:pPr marL="343080" indent="-343080">
              <a:lnSpc>
                <a:spcPct val="100000"/>
              </a:lnSpc>
              <a:spcBef>
                <a:spcPts val="1500"/>
              </a:spcBef>
              <a:buClr>
                <a:srgbClr val="054a6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Time</a:t>
            </a:r>
            <a:r>
              <a:rPr b="0" lang="lt-LT" sz="2400" spc="-1" strike="noStrike">
                <a:solidFill>
                  <a:srgbClr val="054a6f"/>
                </a:solidFill>
                <a:latin typeface="Century Gothic"/>
              </a:rPr>
              <a:t>-</a:t>
            </a:r>
            <a:r>
              <a:rPr b="0" lang="en-GB" sz="2400" spc="-1" strike="noStrike">
                <a:solidFill>
                  <a:srgbClr val="054a6f"/>
                </a:solidFill>
                <a:latin typeface="Century Gothic"/>
              </a:rPr>
              <a:t>consuming </a:t>
            </a:r>
            <a:endParaRPr b="0" lang="en-US" sz="24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27" name="Footer Placeholder 6"/>
          <p:cNvSpPr/>
          <p:nvPr/>
        </p:nvSpPr>
        <p:spPr>
          <a:xfrm>
            <a:off x="468360" y="6308640"/>
            <a:ext cx="289548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1200" spc="-1" strike="noStrike">
                <a:solidFill>
                  <a:srgbClr val="8995a4"/>
                </a:solidFill>
                <a:latin typeface="Century Gothic"/>
              </a:rPr>
              <a:t>© Visionary Analytics, 201</a:t>
            </a:r>
            <a:r>
              <a:rPr b="0" lang="en-US" sz="1200" spc="-1" strike="noStrike">
                <a:solidFill>
                  <a:srgbClr val="8995a4"/>
                </a:solidFill>
                <a:latin typeface="Century Gothic"/>
              </a:rPr>
              <a:t>8</a:t>
            </a:r>
            <a:endParaRPr b="0" lang="en-US" sz="12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8" name="Rectangle 7"/>
          <p:cNvSpPr/>
          <p:nvPr/>
        </p:nvSpPr>
        <p:spPr>
          <a:xfrm>
            <a:off x="0" y="0"/>
            <a:ext cx="9144000" cy="126828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29" name="Title 1"/>
          <p:cNvSpPr/>
          <p:nvPr/>
        </p:nvSpPr>
        <p:spPr>
          <a:xfrm>
            <a:off x="457200" y="189000"/>
            <a:ext cx="8229600" cy="93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lt-LT" sz="3600" spc="-1" strike="noStrike">
                <a:solidFill>
                  <a:srgbClr val="ffffff"/>
                </a:solidFill>
                <a:latin typeface="Century Gothic Bold"/>
                <a:ea typeface="Arial"/>
              </a:rPr>
              <a:t>Survey of ALL beneficiaries</a:t>
            </a:r>
            <a:endParaRPr b="0" lang="en-US" sz="3600" spc="-1" strike="noStrike">
              <a:solidFill>
                <a:srgbClr val="054a6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0" name="Rectangle 3"/>
          <p:cNvSpPr/>
          <p:nvPr/>
        </p:nvSpPr>
        <p:spPr>
          <a:xfrm>
            <a:off x="0" y="0"/>
            <a:ext cx="9144000" cy="6858000"/>
          </a:xfrm>
          <a:prstGeom prst="rect">
            <a:avLst/>
          </a:prstGeom>
          <a:gradFill rotWithShape="0">
            <a:gsLst>
              <a:gs pos="0">
                <a:srgbClr val="002842"/>
              </a:gs>
              <a:gs pos="100000">
                <a:srgbClr val="004c77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4a6f"/>
              </a:solidFill>
              <a:latin typeface="Arial"/>
            </a:endParaRPr>
          </a:p>
        </p:txBody>
      </p:sp>
      <p:sp>
        <p:nvSpPr>
          <p:cNvPr id="831" name="PlaceHolder 1"/>
          <p:cNvSpPr>
            <a:spLocks noGrp="1"/>
          </p:cNvSpPr>
          <p:nvPr>
            <p:ph type="title"/>
          </p:nvPr>
        </p:nvSpPr>
        <p:spPr>
          <a:xfrm>
            <a:off x="611280" y="2781360"/>
            <a:ext cx="8229600" cy="9367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2af00"/>
                </a:solidFill>
                <a:latin typeface="Century Gothic Bold"/>
              </a:rPr>
              <a:t>Usage of big labour market data</a:t>
            </a:r>
            <a:endParaRPr b="0" lang="en-US" sz="3600" spc="-1" strike="noStrike">
              <a:solidFill>
                <a:srgbClr val="054a6f"/>
              </a:solidFill>
              <a:latin typeface="Century Gothic Bold"/>
            </a:endParaRPr>
          </a:p>
        </p:txBody>
      </p:sp>
      <p:sp>
        <p:nvSpPr>
          <p:cNvPr id="832" name=""/>
          <p:cNvSpPr txBox="1"/>
          <p:nvPr/>
        </p:nvSpPr>
        <p:spPr>
          <a:xfrm>
            <a:off x="457200" y="5013000"/>
            <a:ext cx="8686800" cy="1112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Aim: to evaluate whether funded trainings match the needs of </a:t>
            </a:r>
            <a:r>
              <a:rPr b="0" lang="lt-LT" sz="2800" spc="-1" strike="noStrike">
                <a:solidFill>
                  <a:srgbClr val="ffffff"/>
                </a:solidFill>
                <a:latin typeface="Century Gothic"/>
              </a:rPr>
              <a:t>the </a:t>
            </a:r>
            <a:r>
              <a:rPr b="0" lang="en-US" sz="2800" spc="-1" strike="noStrike">
                <a:solidFill>
                  <a:srgbClr val="ffffff"/>
                </a:solidFill>
                <a:latin typeface="Century Gothic"/>
              </a:rPr>
              <a:t>labour market </a:t>
            </a: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  <a:p>
            <a:pPr>
              <a:lnSpc>
                <a:spcPct val="100000"/>
              </a:lnSpc>
              <a:spcBef>
                <a:spcPts val="700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54a6f"/>
              </a:solidFill>
              <a:latin typeface="Century Gothic Bold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25T07:44:50Z</dcterms:created>
  <dc:creator>Zilvinas</dc:creator>
  <dc:description/>
  <dc:language>en-US</dc:language>
  <cp:lastModifiedBy>Jansová Lenka</cp:lastModifiedBy>
  <dcterms:modified xsi:type="dcterms:W3CDTF">2018-09-28T09:25:13Z</dcterms:modified>
  <cp:revision>37</cp:revision>
  <dc:subject/>
  <dc:title>Jaunimo geografinis, profesinis ir socialinis judumas: efektyvesnės ekonomikos ir teisingesnės visuomenės link</dc:title>
</cp:coreProperties>
</file>